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465-CF34-4552-BC60-99460E23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994-3A71-4BD5-A18A-795663C5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06C-EB65-4C5F-B6F7-D94EBBEB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CC1-5EA3-4CF2-993A-EB63C41F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E4A-F1A5-43E5-9768-86452E97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0FB-F2AA-4451-A95D-623B803C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FCCE-218B-4CF1-BB69-F3DAA5B9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EB7-4894-42C6-8488-1751746A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2AD-8B85-4163-A9CA-18E744EF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8D8-5213-4AA3-9EB5-68E79D06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6CC-95FB-4320-B319-17659297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CA2-6697-4B21-A7A4-594A81E2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D71F-7D9A-4CA1-8243-CE3EED38B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450800"/>
            <a:ext cx="84960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81080" y="1916280"/>
            <a:ext cx="8691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3041640" y="981000"/>
            <a:ext cx="5803920" cy="54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1251000" y="2708280"/>
            <a:ext cx="7620120" cy="98100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179280" y="3933720"/>
            <a:ext cx="86918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عود إلى : الإيمان والعمل الصال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4"/>
          <a:stretch/>
        </p:blipFill>
        <p:spPr>
          <a:xfrm>
            <a:off x="250920" y="692280"/>
            <a:ext cx="86421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920" y="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642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782640"/>
            <a:ext cx="86421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250920" y="888840"/>
            <a:ext cx="8767800" cy="117180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611280" y="1197000"/>
            <a:ext cx="384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مل أهل الجنة وعمل أهل الن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2278080"/>
            <a:ext cx="8637480" cy="439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366840" y="530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ذهبن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60213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حقد ٍ وضغنٍ وعداو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من جنس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قبل عمل ال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60280" y="3357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جنة حرام على كل 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0680" y="465300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و من باب تعليق الشيء بـ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حا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"/>
          <p:cNvPicPr/>
          <p:nvPr/>
        </p:nvPicPr>
        <p:blipFill>
          <a:blip r:embed="rId2"/>
          <a:stretch/>
        </p:blipFill>
        <p:spPr>
          <a:xfrm>
            <a:off x="2801880" y="2583000"/>
            <a:ext cx="6147000" cy="53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3"/>
          <a:stretch/>
        </p:blipFill>
        <p:spPr>
          <a:xfrm>
            <a:off x="1979640" y="3840120"/>
            <a:ext cx="6856560" cy="519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1476360" y="4683240"/>
            <a:ext cx="6138720" cy="414360"/>
          </a:xfrm>
          <a:prstGeom prst="rect">
            <a:avLst/>
          </a:prstGeom>
          <a:ln w="0">
            <a:noFill/>
          </a:ln>
        </p:spPr>
      </p:pic>
      <p:sp>
        <p:nvSpPr>
          <p:cNvPr id="63" name="عنوان 1"/>
          <p:cNvSpPr/>
          <p:nvPr/>
        </p:nvSpPr>
        <p:spPr>
          <a:xfrm>
            <a:off x="200160" y="558972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آ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أنه من المحال دخول الجمل في سم الخياط فكذلك المكذبون بآيات الله محال دخولهم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620568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ليف يكون على 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طا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نعم الله على أهل الجن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ينزع ما في قلوبهم من الحقد فلا يحسد بعضهم بعضاً على تفاضل منازلهم في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2338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ة لا تُدخل إلا باجتماع أمرين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8"/>
          <p:cNvSpPr/>
          <p:nvPr/>
        </p:nvSpPr>
        <p:spPr>
          <a:xfrm flipH="1">
            <a:off x="4571640" y="269892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9"/>
          <p:cNvSpPr/>
          <p:nvPr/>
        </p:nvSpPr>
        <p:spPr>
          <a:xfrm flipH="1">
            <a:off x="4566960" y="2955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20"/>
          <p:cNvCxnSpPr/>
          <p:nvPr/>
        </p:nvCxnSpPr>
        <p:spPr>
          <a:xfrm flipH="1">
            <a:off x="8456040" y="38512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3635280"/>
            <a:ext cx="820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مل الصال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>
            <a:off x="8820000" y="2949480"/>
            <a:ext cx="0" cy="9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0"/>
          <p:cNvCxnSpPr/>
          <p:nvPr/>
        </p:nvCxnSpPr>
        <p:spPr>
          <a:xfrm flipH="1">
            <a:off x="8456040" y="3274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308124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ل  الله ورحمته وتوفيق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ه لا يدخل أحد الجنة إلا برحمة الله تعا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</a:t>
            </a:r>
            <a:r>
              <a:rPr b="1" lang="en-US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2711520" y="4683240"/>
            <a:ext cx="6108480" cy="11221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638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باب 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262080" y="1052640"/>
            <a:ext cx="8557920" cy="576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262080" y="3708360"/>
            <a:ext cx="5068800" cy="698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2003400" y="4869000"/>
            <a:ext cx="332748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6"/>
          <a:stretch/>
        </p:blipFill>
        <p:spPr>
          <a:xfrm>
            <a:off x="1270080" y="5877000"/>
            <a:ext cx="4064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